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9BDB-101F-419C-83FD-3E2FA1F6A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1280" y="411372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2364-6746-43AA-A661-F9C6D07B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33620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A43E-9615-4718-ABCB-38E510F9B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0780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8432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128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0780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8432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B10B-E3FC-488A-B19E-C29A67BE3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DD65D-EF28-4397-8442-3EAA82562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31280" y="210780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6BDEE-2DDF-471D-AB58-2F9EE240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E072-A8B7-40F7-9276-49B698BC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3E65-69A8-46F7-95B9-AD59DAEE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6D97-E690-458D-B978-7981BE95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1280" y="96480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9D21-8DFE-4E1E-89AA-0E711694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BE74E-D84B-409F-AEEF-49203EB3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1280" y="210780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1F2F-6AA7-4924-8029-0CFF93939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33620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CF73-A1BE-4B49-9F63-852FFFA5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BA80-E4C4-4635-9A27-EEC1327A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1280" y="411372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DEBE6-D4A4-45EB-B653-E5664627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33620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6C3F-E569-4A86-AA6F-26DB32911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0780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58432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128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0780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58432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F6C6-F3CA-4027-BE94-0C34DF780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F2EC-AC3E-42A3-877C-11E313DE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17CF-14A9-4902-93AF-8725CD81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7110-8B00-4B3B-85BE-A2C572B1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1280" y="96480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0ADC-5153-4BEA-A848-0B792B79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AA51-BF75-4CE3-B171-41E77E40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33620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4C00-006D-4F05-A280-8DC6769B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1B81-F1C0-4428-91A9-9CBB259C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31280" y="210780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1" marL="690840" indent="-265680" algn="r" rtl="1">
              <a:spcBef>
                <a:spcPts val="799"/>
              </a:spcBef>
              <a:buClr>
                <a:srgbClr val="4646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2" marL="1062720" indent="-212400" algn="r" rtl="1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3" marL="1487880" indent="-212400" algn="r" rtl="1">
              <a:spcBef>
                <a:spcPts val="799"/>
              </a:spcBef>
              <a:buClr>
                <a:srgbClr val="4646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4" marL="1913040" indent="-212400" algn="r" rtl="1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5" marL="1913040" indent="-2124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6" marL="1913040" indent="-2124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78C1-AD3B-4374-B08B-B349FDCA2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4572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8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79EC-AADE-4A5F-B18C-37C7DD38B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46464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46464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46464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4572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700" spc="-1" strike="noStrike">
                <a:solidFill>
                  <a:srgbClr val="003399"/>
                </a:solidFill>
                <a:latin typeface="Arial"/>
              </a:rPr>
              <a:t>شركة العلم</a:t>
            </a:r>
            <a:endParaRPr b="0" lang="en-US" sz="67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3647880"/>
            <a:ext cx="45720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464646"/>
                </a:solidFill>
                <a:latin typeface="Arial"/>
              </a:rPr>
              <a:t>ننسج المعلومة خدمة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213520" y="1863720"/>
            <a:ext cx="2944800" cy="294480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mph" presetID="26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25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200"/>
                            </p:stCondLst>
                            <p:childTnLst>
                              <p:par>
                                <p:cTn id="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4572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3399"/>
                </a:solidFill>
                <a:latin typeface="Arial"/>
              </a:rPr>
              <a:t>تم</a:t>
            </a:r>
            <a:br>
              <a:rPr sz="6700"/>
            </a:b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ar-SA" sz="2800" spc="-1" strike="noStrike">
                <a:solidFill>
                  <a:srgbClr val="003399"/>
                </a:solidFill>
                <a:latin typeface="Arial"/>
              </a:rPr>
              <a:t>تأكيد الملكية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"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3647880"/>
            <a:ext cx="45720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464646"/>
                </a:solidFill>
                <a:latin typeface="Arial"/>
              </a:rPr>
              <a:t>الخدمة التي تقدم السيرة الذاتية لكل سيارة</a:t>
            </a: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1" name="">
            <a:hlinkClick r:id="rId1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mph" presetID="26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25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200"/>
                            </p:stCondLst>
                            <p:childTnLst>
                              <p:par>
                                <p:cTn id="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خدمة 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ar-SA" sz="5000" spc="-1" strike="noStrike">
                <a:solidFill>
                  <a:srgbClr val="003399"/>
                </a:solidFill>
                <a:latin typeface="Arial"/>
              </a:rPr>
              <a:t>تـم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1280" y="2798640"/>
            <a:ext cx="7620120" cy="23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464646"/>
                </a:solidFill>
                <a:latin typeface="Arial"/>
              </a:rPr>
              <a:t>الخدمة التي تخبر بالمالك الحقيقي للسيارة المستعملة قبل شرائها، وعدد الملاك السابقين، ومدد ملكياتهم، والمخالفات المستحقة على البائع والمشتري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قبل خدمة 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ar-SA" sz="5000" spc="-1" strike="noStrike">
                <a:solidFill>
                  <a:srgbClr val="003399"/>
                </a:solidFill>
                <a:latin typeface="Arial"/>
              </a:rPr>
              <a:t>تـم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..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76600" y="2082600"/>
            <a:ext cx="37785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ff0000"/>
                </a:solidFill>
                <a:latin typeface="Arial"/>
              </a:rPr>
              <a:t>السيارات:</a:t>
            </a:r>
            <a:r>
              <a:rPr b="0" lang="ar-SA" sz="3300" spc="-1" strike="noStrike">
                <a:solidFill>
                  <a:srgbClr val="464646"/>
                </a:solidFill>
                <a:latin typeface="Arial"/>
              </a:rPr>
              <a:t> تسرق السيارات وتباع باستمارات مزورة..!</a:t>
            </a:r>
            <a:endParaRPr b="0" lang="en-US" sz="3300" spc="-1" strike="noStrike">
              <a:solidFill>
                <a:srgbClr val="464646"/>
              </a:solidFill>
              <a:latin typeface="Arial"/>
            </a:endParaRPr>
          </a:p>
          <a:p>
            <a:pPr marL="322200" indent="-322200" algn="r" rtl="1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ff0000"/>
                </a:solidFill>
                <a:latin typeface="Arial"/>
              </a:rPr>
              <a:t>الاستمارات:</a:t>
            </a:r>
            <a:r>
              <a:rPr b="0" lang="ar-SA" sz="3300" spc="-1" strike="noStrike">
                <a:solidFill>
                  <a:srgbClr val="464646"/>
                </a:solidFill>
                <a:latin typeface="Arial"/>
              </a:rPr>
              <a:t> تختفي معلوماتها عند استصدار (بدل فاقد).</a:t>
            </a:r>
            <a:endParaRPr b="0" lang="en-US" sz="33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994040"/>
            <a:ext cx="4406760" cy="486396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وعندما جاءت 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ar-SA" sz="5000" spc="-1" strike="noStrike">
                <a:solidFill>
                  <a:srgbClr val="003399"/>
                </a:solidFill>
                <a:latin typeface="Arial"/>
              </a:rPr>
              <a:t>تـم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..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76600" y="2082600"/>
            <a:ext cx="37785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464646"/>
                </a:solidFill>
                <a:latin typeface="Arial"/>
              </a:rPr>
              <a:t>معرفة المالك الحقيقي، وعدد الملاك السابقين، ومدد ملكياتهم، والمخالفات المستحقة.. </a:t>
            </a:r>
            <a:r>
              <a:rPr b="0" lang="hi-IN" sz="3200" spc="-1" strike="noStrike">
                <a:solidFill>
                  <a:srgbClr val="ff0000"/>
                </a:solidFill>
                <a:latin typeface="Arial"/>
              </a:rPr>
              <a:t>خلال ثوان معدودة.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994040"/>
            <a:ext cx="4406760" cy="4863960"/>
          </a:xfrm>
          <a:prstGeom prst="rect">
            <a:avLst/>
          </a:prstGeom>
          <a:ln w="0">
            <a:noFill/>
          </a:ln>
        </p:spPr>
      </p:pic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0" y="1305000"/>
            <a:ext cx="7362720" cy="5553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583400" y="3158280"/>
            <a:ext cx="1219320" cy="322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71785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42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Gulim"/>
              </a:rPr>
              <a:t>Pr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-19080" y="2220840"/>
            <a:ext cx="4572000" cy="3276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4552920" y="2220840"/>
            <a:ext cx="4572000" cy="3276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8" name=""/>
          <p:cNvSpPr/>
          <p:nvPr/>
        </p:nvSpPr>
        <p:spPr>
          <a:xfrm>
            <a:off x="133200" y="6258960"/>
            <a:ext cx="1219320" cy="322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71785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42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Gulim"/>
              </a:rPr>
              <a:t>Leaf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657520" y="1712880"/>
            <a:ext cx="2752560" cy="3840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76320" y="1295280"/>
            <a:ext cx="2435040" cy="4257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5562720" y="2870280"/>
            <a:ext cx="3504960" cy="2682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4" name=""/>
          <p:cNvSpPr/>
          <p:nvPr/>
        </p:nvSpPr>
        <p:spPr>
          <a:xfrm>
            <a:off x="152280" y="6019200"/>
            <a:ext cx="1219320" cy="322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71785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42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Gulim"/>
              </a:rPr>
              <a:t>Roll 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6019200"/>
            <a:ext cx="1219320" cy="322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71785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42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Gulim"/>
              </a:rPr>
              <a:t>Po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15000" y="6035040"/>
            <a:ext cx="1219320" cy="322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71785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42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Gulim"/>
              </a:rPr>
              <a:t>Pop-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1280" y="2195280"/>
            <a:ext cx="7920360" cy="25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0" spc="-1" strike="noStrike">
                <a:solidFill>
                  <a:srgbClr val="003399"/>
                </a:solidFill>
                <a:latin typeface="Arial"/>
              </a:rPr>
              <a:t>شكرا</a:t>
            </a:r>
            <a:br>
              <a:rPr sz="10000"/>
            </a:br>
            <a:r>
              <a:rPr b="0" lang="hi-IN" sz="10000" spc="-1" strike="noStrike">
                <a:solidFill>
                  <a:srgbClr val="003399"/>
                </a:solidFill>
                <a:latin typeface="Arial"/>
              </a:rPr>
              <a:t>لكم</a:t>
            </a:r>
            <a:endParaRPr b="0" lang="en-US" sz="10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250" autoRev="1" fill="hold"/>
                                        <p:tgtEl>
                                          <p:spTgt spid="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7-02-17T09:30:05Z</dcterms:modified>
  <cp:revision>37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