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15B1-5922-46AF-87C4-A3EEEDF3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711-66EC-420A-95AB-4D572F8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839-FC44-4BF3-AE18-5DCA348E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931-1330-4888-B6AA-781CCD48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081-FDDA-44A5-AFD0-35DFCB46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5CA-7394-4B76-B397-C8FB906C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185F-3E0E-4ACE-9354-375ECED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4F92-19DC-4BC9-B677-7B546FEF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D4D-1E78-4323-B8DE-996CD63B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E89-B1D5-45A5-92D1-91B55713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6F6-9B04-4687-B97A-58FB4CF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6FC-1E34-4392-BE65-A72D0E4F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4260-501C-4D47-A5F1-58BDADC822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الأصدقاء جواهر نادرة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،</a:t>
            </a:r>
            <a:r>
              <a:rPr b="0" lang="ar-SA" sz="4400" spc="-1" strike="noStrike">
                <a:solidFill>
                  <a:srgbClr val="ff6699"/>
                </a:solidFill>
                <a:latin typeface="Arial"/>
              </a:rPr>
              <a:t> هم يبهجونك ويساندوك، هم جاهزون لسماعك في أي وقت تحتاجهم هم بجانبك فاتحين قلوبهم لك</a:t>
            </a:r>
            <a:r>
              <a:rPr b="0" lang="ar-EG" sz="4400" spc="-1" strike="noStrike">
                <a:solidFill>
                  <a:srgbClr val="ff6699"/>
                </a:solidFill>
                <a:latin typeface="Arial"/>
              </a:rPr>
              <a:t>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لذا أرهم مدى حبك لهم أرسل هذه الرسالة للذين ظننت أنهم أصدقاؤك الحقيقيون وغيرها من الرسائل التي تحمل معنى الصداق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5267160" cy="597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(( الشيء الجيد في الصداقة هو معرفة من الذي يمكن أن تستودعه سرك ويقوم بنصحك ))</a:t>
            </a:r>
            <a:br>
              <a:rPr sz="4800"/>
            </a:b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قرأ هذه الكلمات التالية وتأملها فربما تكون مفيدة لك في حيات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154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1520" y="339840"/>
            <a:ext cx="8286840" cy="617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عط الناس أكثر مما يتوقعو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حب بعمق وبصدق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حبك، فلا بد أن تعنيها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بث أو تلهو أبدا بأحلام الآخرين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عندما تقول أنا آسف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أنظر لعيني الشخص الذي تكلمه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لا تعاقب أو تصدر حكما على الآخرين وفقا لما تسمعه عنهم فق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244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624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كلم ببطء لكن فكر بسرع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ذا سألك أحدهم سؤالا لا ترغب في اجابته ابتسم واسأله: لماذا ترغب في معرفه الإجابة؟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دائما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طريق الى النجاح الكبير يتضمنه مخاطر كبيرة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عندما تخسر لا بد أن تستفيد من خسارتك</a:t>
            </a:r>
            <a:br>
              <a:rPr sz="4000"/>
            </a:b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احترم ثلاث أشياء احترم نفسك، احترم الآخرين، احترم تصرفا</a:t>
            </a:r>
            <a:r>
              <a:rPr b="0" lang="ar-EG" sz="4000" spc="-1" strike="noStrike">
                <a:solidFill>
                  <a:srgbClr val="ff3399"/>
                </a:solidFill>
                <a:latin typeface="Arial"/>
              </a:rPr>
              <a:t>ت</a:t>
            </a:r>
            <a:r>
              <a:rPr b="0" lang="ar-SA" sz="4000" spc="-1" strike="noStrike">
                <a:solidFill>
                  <a:srgbClr val="ff3399"/>
                </a:solidFill>
                <a:latin typeface="Arial"/>
              </a:rPr>
              <a:t>ك وكن مسئولا عنها</a:t>
            </a:r>
            <a:r>
              <a:rPr b="0" lang="ar-EG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8000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1520" y="374760"/>
            <a:ext cx="8218440" cy="61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لا تترك أي سوء تفاهم ولو كان صغيرا يدمر الصداقة العظيمة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عندما تدرك أنك اخطأت قم بتصحيح ذلك مباشرة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بتسم عندما ترد على الهاتف، المتصل سوف يشعر بذلك في صوتك اقرأ ما بين الأسطر.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ذكر أنه في بعض الأحيان، لا تنال ما تريد </a:t>
            </a:r>
            <a:br>
              <a:rPr sz="3600"/>
            </a:b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EG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600" spc="-1" strike="noStrike">
                <a:solidFill>
                  <a:srgbClr val="ff3399"/>
                </a:solidFill>
                <a:latin typeface="Arial"/>
              </a:rPr>
              <a:t>ربما تكون محظوظا في ذلك اذا وصلت الى نهاية الرسالة، فأنت انسان مذهل، وأتوقع منك ان تعمل بما فيها وترسلها لمن تح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9522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3:38:33Z</dcterms:created>
  <dc:creator>Eman</dc:creator>
  <dc:description/>
  <dc:language>en-US</dc:language>
  <cp:lastModifiedBy>Administrator</cp:lastModifiedBy>
  <dcterms:modified xsi:type="dcterms:W3CDTF">2007-01-29T09:38:05Z</dcterms:modified>
  <cp:revision>4</cp:revision>
  <dc:subject/>
  <dc:title>قصة المسامير:  قصة رائعة ارسلها لمن تحب</dc:title>
</cp:coreProperties>
</file>