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amera.wav" ContentType="audio/x-wav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256-EA0A-48E5-BFFF-C4AB8730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CA08-19B2-4B40-8795-19BE098A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6CE-20FA-45B9-B96B-FD46EA0B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7B7-4F6F-462A-BEBA-ADFA9EF4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A11-FD36-4A07-9F78-03A7CAAA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B384-85CD-483D-BB22-F65B8FBA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E026-A0CE-422A-A487-9A0F78A7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0FAF-09F5-49D1-B7BC-A2202558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CA26-3342-4D06-819B-EB73F6E4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1E17-7EB2-4B28-A725-7BA930B9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8D52-089C-4936-9391-887B94CA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DB1-A171-43C3-B268-DC69E440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9FA2-F899-4A0E-9897-1237522F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3E7E-819A-47B4-BFB7-BEB25D0B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2396-393F-4519-800A-21572D06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A627-6F29-4DA2-A629-6673EE21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717B-33C5-48ED-9D82-391C8229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C153A-DDCD-4A54-887E-8046C996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5EAD-D285-434D-B67D-390B9AFF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615F-4D0D-439B-A945-ABD57A39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78495-53D7-4A58-A57D-7E14A9FA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BB3CC-CBE7-49C3-8AD7-88725E12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322-92B4-475A-B54F-375381B9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04027-AB2F-4336-938D-9FFB2C20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26BE9-9395-4955-A8A7-A980B078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8113-022B-439D-84B2-41B7380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45CFD-2804-436C-A1A2-C3006F88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0E71-2E2C-4279-BD3F-5E5DDCDD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FF646-AE17-4AF8-9B0F-3BCBB4F9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76658-A5B0-40F7-8015-EA51C027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5FFCB-E7CC-44D3-A7D3-DCBF677D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321CD-8482-442E-BE90-310A8592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9E7BA1-6D47-49D6-975A-98F05726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5F3-71C5-4BAA-8AD7-8592A403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05EEE8-8F8D-4404-A9C5-E79091C1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0AAD1-D40C-4A43-810B-28B32EE2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0C008-C1D1-46C1-81C9-9F18FA39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BDC4D-CDD1-40C5-B22E-480AD863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23018-B584-49D5-B69B-298AA362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76F547-8437-4D30-8BE3-5BF0B08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01C02-288A-411D-AABA-B1C6ADB2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A6454-4863-4FB1-B74E-AAF992C0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407BB-0405-4ED5-A25A-405F5DDD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4E8-2E9A-4D47-B30E-C986CDCD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EB7-B8B9-4F1C-8FD5-C41BF960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2CE-DB84-4C96-BBFE-0E9206DF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A17-34DD-48BA-9103-4640FE80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A17-2E61-4780-9202-6E4B76FE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3E63-132C-4D67-8846-6A6AD00E0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FA7D-39F9-453A-A354-FEC042A69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4AD5-B59A-480C-A0A4-E1F6BC4F5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B9D7-9F1B-49F4-A49D-21EC2F290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58920" y="476280"/>
            <a:ext cx="57610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2920" y="476280"/>
            <a:ext cx="410544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1023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عــام أف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DecoType Naskh Variants"/>
              </a:rPr>
              <a:t>وعــــــام أطـــــل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DecoType Naskh Variants"/>
              <a:ea typeface="DecoType Naskh Variants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1557360"/>
            <a:ext cx="82072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خليليّ كم من ميت قد حضرته             ولـكــنني لم أنتفـــع بحضـــــوري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ليال قد أرتني عجائبــــاً             لهن وأيام خـــــلت وشهـــــــ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كم من سنـــين قد طوتني كثيرة               وكم من أمور قد جرت وأمـور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لم يزده السن ما عاش عبرة               فذاك الذي لا يســتنير بنـــــــور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50920" y="765000"/>
            <a:ext cx="8353440" cy="75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عن ابن عمر رضي الله عنه قال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خذ رسول الله صلى الله عليه وسلم بمنكبي فقا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كن في الدنيا كأنك غريب أو عابر سبيل )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وكان ابن عمر يقول 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( إذا أمسيت فلا تنتظر الصباح وإذا أصبحت فلا تنتظر المساء 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وخذ من صحتك لمرضك ، ومن حياتك لموتك 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رواه البخار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907920"/>
            <a:ext cx="88549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ـطعـــت شهـــور العمــر لـهوا وغـفـــــــلة        ولم تحـــــترم فيمــــــا أتيت المحــــــــــرّ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لا رجــب وافــــــــــيت فـيه بـــحـــــــقه        ولا صمت شهر الصـــوم صوما متم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لا في ليــالي عشر ذي الحــــــــجــة الذي       مضى كنت قـواما ولا كنت محــــــــرم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هــــل لك أن تمــــــحي الذنـــــــوب بـعـبرة       وتبكـي عـليها حســرة وتنــــــــــدمــــ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تسـتـــــــقبل العــــــــام الجـــــديـد بتوبـــة       لعـلك أن تمحـوا بـها ما تقـــــــــــــــد مــا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4000" spc="-1" strike="noStrike">
                <a:solidFill>
                  <a:srgbClr val="ffffff"/>
                </a:solidFill>
                <a:latin typeface="Tahoma"/>
                <a:cs typeface="DecoType Naskh"/>
              </a:rPr>
              <a:t>قيل لنوح عليه السلام، وقد لبث مع قومه ألف سنة إلا خمسين عاماً: كيف رأيت هذه الدنيا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فقال: كداخل </a:t>
            </a: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"/>
              </a:rPr>
              <a:t>من باب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  <a:ea typeface="DecoType Naskh"/>
              </a:rPr>
              <a:t> وخارج من آخر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4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912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12" autoRev="1" fill="hold">
                                          <p:stCondLst>
                                            <p:cond delay="9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الفرح بقطع الأيام والأعوام دون اعتبار وحساب لما كان فيها ويكون بعد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هو من البيع المغبون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فالعاقل من اتعظ بأمسه، واجتهد في يومه، واستعد لغ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3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2133720"/>
            <a:ext cx="71276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ن تفكر في عواقب الدنيا أخذ الحذر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أيقن بطول الطريق تأهب للسفر،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ما أعجب أمرك يا من يُوقن بأمر ثم ينساه 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يتحقق ضرراً حالاًَّ ثم يغشاه 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تغلبكَ نفسُك على ما تظن ، ولا تغلبها على ماتستيقن !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24000" y="1125360"/>
            <a:ext cx="471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قال ابن الجوزي رحمه الله تعا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3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3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3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3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981000"/>
            <a:ext cx="7920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اجعل جل اهتمامك بالآخرة يزح الله به باقي الهموم ليصفو القلب لله تعال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إن كان في بحر من الابتل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( من جعل الهموم هما واحدا هم المعاد كفاه الله سائر هموم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ومن تشعبت به الهموم من أحوال الدن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لم يبال الله في أي أوديتها هلك 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8360" y="333360"/>
            <a:ext cx="82072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تجارة الآخرة لا تبور .. والتهافت على الدنيا لا يغير المقد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 قال صلى الله عليه وسل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DecoType Naskh"/>
              </a:rPr>
              <a:t>( من كانت الآخرة همه ،جعل الله غناه في قلبه ، وجمع له شمله 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أتته الدنيا وهي راغمة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من كانت الدنيا ه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جعل الله فقره بين عينيه ، وفرق عليه شمله 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DecoType Naskh"/>
              </a:rPr>
              <a:t>ولم يأته من الدنيا إلا ما قدر له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4560" y="2133720"/>
            <a:ext cx="8569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ما مـــــــــضى كان همساتُ مُشْفِــــق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كلماتُ ناصـــــــــــــــح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إن يكن زل لساني عن صواب فاعذروني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أو يكن واقع سوءاً سامحوني </a:t>
            </a: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ف الله الله في المسامح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Tahoma"/>
                <a:cs typeface="DecoType Thuluth"/>
              </a:rPr>
              <a:t>واعذروني على التقصير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ar-SA" sz="2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6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2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577280" y="17161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0667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ونحن في أواخر مراحل هذا العام ولا ندري أندرك عامنا الجديد أم يحول  المنون بيننا وبينه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إليك هذه الوقف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DecoType Naskh"/>
              </a:rPr>
              <a:t>أسأل الله تعالى أن تجد لها في قلبك موضع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DecoType Naskh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6000" y="692280"/>
            <a:ext cx="46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Thuluth"/>
              </a:rPr>
              <a:t>بسم الله الرحمن الرح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1268280"/>
            <a:ext cx="684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يا نفس لله توبي  واستغفري من ذنوبي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قد بدت  شمس عامي  تميل نحو  الغروب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59280" y="3084480"/>
            <a:ext cx="412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595440"/>
            <a:ext cx="792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نسير إلى الآجال في كل لحـظة  *** وأعمارنا تطــوى وهن مــرا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ترحل من الدنيا بزاد من التقى *** فعمـــرك أيـــــــام وهــنّ قــــــلائـ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ما هذه الأيام إلا مــــــراحــل  *** يحث بها حاد إلى الموت قاص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Naskh"/>
              </a:rPr>
              <a:t>وأعجب شيء لو تأملت أنها *** منازل تطـوى والمســـافر قــــاع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6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6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1125360"/>
            <a:ext cx="6912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Traditional Arabic"/>
              </a:rPr>
              <a:t>قال علي بن أبي طالب رضي الله تعالى عنه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(ارتحلت الدنيا مدبرة وارتحلت الآخرة مقبل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ولكل واحدة منها بنون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فكونوا من أبناء الآخرة، ولا تكونوا من أبناء الدنيا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فإن اليوم عمل ولا حساب،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وغداً حساب ولا عمل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أخرجه البخاري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3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3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3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3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3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333360"/>
            <a:ext cx="820728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بن عياض لرجل : كم أتى عليك ؟ قال : ستون سن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فأنت منذ ستين سنة تسير إلى ربك يوشك أن تبلغ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إنا لله و إنا إليه راجعو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الفضيل : أتعرف تفسيره تقول : إنا لله و إنا إليه راجعون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من علم أنه لله عبد وأنه إليه راجع فليعلم أنه موقوف ، ومن علم أنه موقوف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فليعلم أنه مسئول ، فليعد للسؤال جوابا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قال الرجل : فما الحيلة 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قال : يسيرة . قال: ما هي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Special"/>
              </a:rPr>
              <a:t> قال : تحسن فيما بقي يغفر لك ما مضى 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Special"/>
              </a:rPr>
              <a:t>فإنك إن أسأت فيما بقي ، أُخذت بما مضى وما بقي والأعمال بالخواتيم .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  <a:ea typeface="DecoType Naskh Spec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595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260280"/>
            <a:ext cx="78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1341360"/>
            <a:ext cx="51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أنت تسير في هذه الدنيا .. هناك يوم سيتوقف المسير وتحط بك القافلة ولكن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213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إذا أنت لم ترحلْ بزادٍ من التقى     ولاقيتَ بعد الموتِ من قد تزود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DecoType Thuluth"/>
              </a:rPr>
              <a:t>ندمتَ على ألا تكون كمثـــــــلِه      وأنك لم ترصدْ كما كان أرصد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26028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تمر ســاعـات أيـــامي بلا نــــــــدم           ولا بـكاء ولا خـوف ولا حــــــز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ما أحلم الله عني حيث أمـــهـلني          وقد تمـاديت في ذنبـي ويســـــــــــترنـ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أنا الذي أغلق الأبواب مجتهــــــدا          على المعاصي وعين الله تنظــــــــــــرني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نوح على نفسي وأنـدبــهـــا          وأقطع الدهــــــر بالتـــسبيح والحـــز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hi-IN" sz="24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دعني أسح دموعا لا انقطـاع لـها         فهل عسـى عـبـــــرة منـي تخـــــلــصـن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 </a:t>
            </a: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إنـا لنفرح بالأيام نقطـعــــــــــــــــها      وكل يوم مضى يدني من الأجـل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Tahoma"/>
                <a:cs typeface="DecoType Naskh Variants"/>
              </a:rPr>
              <a:t>فاعمل لنفسك قبل الموت مجتهـداً       فـــإنما الربــح والخسران في العمل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DecoType Naskh Variant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7T13:59:49Z</dcterms:created>
  <dc:creator>Al-Mshikhi</dc:creator>
  <dc:description/>
  <dc:language>en-US</dc:language>
  <cp:lastModifiedBy>sjuhaifa</cp:lastModifiedBy>
  <dcterms:modified xsi:type="dcterms:W3CDTF">2007-01-22T04:32:59Z</dcterms:modified>
  <cp:revision>61</cp:revision>
  <dc:subject/>
  <dc:title>الشريحة 1</dc:title>
</cp:coreProperties>
</file>