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rial"/>
                <a:cs typeface="PT Bold Heading"/>
              </a:rPr>
              <a:t>السلامة في الصحر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9907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28600" y="1066680"/>
            <a:ext cx="8686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عند القيام برحلات برية يستحب وجود أكثر من سيا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إبلاغ الأهل والأصدقاء عن خط سير الرحلة والمكان المقص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فضل استخدام سيارة الدفع الرباعي حتى وإن لم تسلك طرقاً ر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ffff00"/>
                </a:solidFill>
                <a:uFillTx/>
                <a:latin typeface="Arial"/>
                <a:cs typeface="PT Bold Heading"/>
              </a:rPr>
              <a:t>قبل بدء الرحلة يجب التأكد من الأمور التال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فحص الحالة الميكانيكية للسيارة والتأكد أنها بحالة ممتازة ويمكن الاعتماد علي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     بعد الله سبحانه وتعا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التأكد من سلامة جميع الإطارات بما فيها الاحتياط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التأكد من وجود صندوق العدد والمفاتيح الخاصة لصيانة السيا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وجود جهاز تعبئة الإطارات بالهو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وجود حبل قوي للسح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295280"/>
            <a:ext cx="83818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وجود راف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وجود مجراف (شيو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مصباح يعمل على بطارية السيار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بطارية احتياط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جهاز تحديد المواقع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GPS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جهاز اتصال لاسل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تلفون يعمل على الأقمار الصناعية خاصة لمن يقوم برحلات برية بعيدة عن موقع        الإرس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مرآة عاكسة تستخدم لعكس أشعة الشمس في حالة طلب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كبريت أو ولاعة مع مشعل النار (يستخدم لاشعال النار  حين الحاجة لطلب المساعد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1905120" cy="1173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11761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362320" y="1371600"/>
            <a:ext cx="1752480" cy="148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4191120" y="2438280"/>
            <a:ext cx="12952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343040" y="3657600"/>
            <a:ext cx="167652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80880" y="5029200"/>
            <a:ext cx="69343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0880" y="365760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657600"/>
            <a:ext cx="3812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066680"/>
            <a:ext cx="853452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r" rtl="1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كمية من الماء والمواد الغذائية أكثر مما تحتا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 rtl="1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مهما يحدث لك لا تدع الخوف يتملكك وكن هادئا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 rtl="1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قبل ترك الطريق المعبد يجب تحديد الموقع عن طريق جهاز تحديد المواق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 rtl="1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قلل ضغط اطارات السيارة قبل الدخول في الرمال مع ملاحظة عدم تخفيض الضغط أكثر مما يلزم لتجنب انزلاق الاطارات  الحديد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 rtl="1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قم بإعادة ضغط الاطارات إلى وضعها الطبيعي عندما تصل الطريق المعب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 rtl="1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في حالة استخدام الطرق غير المعبدة إذا بدا لك أنك ضللت الطريق ارجع سالكاً الطريق الذي قدمت م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ffff00"/>
                </a:solidFill>
                <a:uFillTx/>
                <a:latin typeface="Arial"/>
                <a:cs typeface="PT Bold Heading"/>
              </a:rPr>
              <a:t>إذا انغرست السيارة في الرمل قم بالآتي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914400"/>
            <a:ext cx="8381880" cy="83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فكّر أي الاتجاهات أسهل (إلى الأمام أو الخل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قلل ضغط الاطارات جميعها (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1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–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15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تأكد أن جميع الاطارات تلامس سطح الأرض وأن جسم السيارة غير ملامس للأر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احرص أن تكون العجلات بوضع مستق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حاول بإخراج السيارة دون الضغط الزائد على السر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اذا تعطلت السيارة (السيارات) أو انغرست كلها في الرمال قم بالتا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لا تغادر المكان واطلب المساعدة عن طريق الهاتف أو جهاز اللاسل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انصب ضلاً إن أمك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قم بإشعال النار وإن لم تجد حطباً، يمكنك إشعال النار في الإطار الاحتياط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استخدم المرآة لعكس أشعة الشمس في كل 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إذا كان الجو حاراً، اشرب فقط عندما تشعر بالعطش وحافظ على الم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لا تشرب ماء الراديتر لأنه يحتوي على مواد سا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74320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PT Bold Heading"/>
              </a:rPr>
              <a:t>متمنين لكم رحلات ممتعة وآ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897520"/>
            <a:ext cx="9144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مع تحيات: إدارة الأمن الصناعي – قسم السلامة (ابن سين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1028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5:09:55Z</dcterms:created>
  <dc:creator>14255</dc:creator>
  <dc:description/>
  <dc:language>en-US</dc:language>
  <cp:lastModifiedBy>test</cp:lastModifiedBy>
  <dcterms:modified xsi:type="dcterms:W3CDTF">2006-09-13T10:34:59Z</dcterms:modified>
  <cp:revision>13</cp:revision>
  <dc:subject/>
  <dc:title>Slide 1</dc:title>
</cp:coreProperties>
</file>