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D5295-431C-475A-94A5-7A76A602C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611F9-FE43-4BB2-A13A-D2DCA1BF5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7FA5D-E6FA-471F-A996-D705C1141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CADC82-89B3-475E-B37D-EA6D9E19F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42D48D-0857-4E80-96E1-C53FCE777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BEBD8-D7CB-49A3-83DA-CD4AD59C7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9FA02-9465-47E3-9F99-EE96B8F2D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15917-AD88-409A-801F-90F42CA30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A3583-287A-4759-8553-1074FA99F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88790-5BF5-4A2E-A52F-46B21E209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0CBA2-44BC-40E9-A51B-29A9B281E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F3450-320F-4D04-A97E-4E3FA6455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DA5F7-F299-4DD2-8828-AA1B23539C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11348-3A50-40EF-9F2F-77B26161E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6AE199-CF89-46EF-99B2-3F63F5898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824F85-27CC-46B6-829A-CE9BED18A8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76D7D0-1DF1-44F3-B225-1EDF09ACF3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1C7EE-C106-49CE-A9C7-D6979B199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F881A-37E6-46B3-A338-919C5E735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34A88-534A-4900-A6CE-9F9E8BD59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1C651-A1FE-43A6-B6C6-0E886BE46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0DDA3-8918-4C27-B52A-B734723EE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FDDBE-BA17-481F-A6DB-7FA939A8D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7CB5A-BAAC-4CD2-A241-A4CFB89D4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863E-FD6C-4167-8BA4-86F16A60072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BA30-F309-42AE-9875-FA7D5C5200C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27c3a"/>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1ff8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990720"/>
            <a:ext cx="7772400" cy="129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99cc00"/>
                </a:solidFill>
                <a:latin typeface="Arial"/>
                <a:cs typeface="Arial"/>
              </a:rPr>
              <a:t>مما</a:t>
            </a:r>
            <a:r>
              <a:rPr b="1" lang="en-US" sz="7200" spc="-1" strike="noStrike">
                <a:solidFill>
                  <a:srgbClr val="99cc00"/>
                </a:solidFill>
                <a:latin typeface="Arial"/>
              </a:rPr>
              <a:t> </a:t>
            </a:r>
            <a:r>
              <a:rPr b="1" lang="ar-SA" sz="7200" spc="-1" strike="noStrike">
                <a:solidFill>
                  <a:srgbClr val="99cc00"/>
                </a:solidFill>
                <a:latin typeface="Arial"/>
                <a:cs typeface="Arial"/>
              </a:rPr>
              <a:t>بعض</a:t>
            </a:r>
            <a:endParaRPr b="0" lang="en-US" sz="7200" spc="-1" strike="noStrike">
              <a:solidFill>
                <a:srgbClr val="c0c0c0"/>
              </a:solidFill>
              <a:latin typeface="Arial"/>
            </a:endParaRPr>
          </a:p>
        </p:txBody>
      </p:sp>
      <p:sp>
        <p:nvSpPr>
          <p:cNvPr id="99" name="PlaceHolder 2"/>
          <p:cNvSpPr>
            <a:spLocks noGrp="1"/>
          </p:cNvSpPr>
          <p:nvPr>
            <p:ph type="subTitle"/>
          </p:nvPr>
        </p:nvSpPr>
        <p:spPr>
          <a:xfrm>
            <a:off x="838080" y="2819160"/>
            <a:ext cx="7467840" cy="281916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علمتني الحياة</a:t>
            </a:r>
            <a:endParaRPr b="0" lang="en-US" sz="9600" spc="-1" strike="noStrike">
              <a:solidFill>
                <a:srgbClr val="ffffff"/>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box(out)" transition="in">
                                      <p:cBhvr additive="repl">
                                        <p:cTn id="7" dur="1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8"/>
                                        </p:tgtEl>
                                        <p:attrNameLst>
                                          <p:attrName>style.visibility</p:attrName>
                                        </p:attrNameLst>
                                      </p:cBhvr>
                                      <p:to>
                                        <p:strVal val="visible"/>
                                      </p:to>
                                    </p:set>
                                    <p:animEffect filter="box(out)" transition="in">
                                      <p:cBhvr additive="repl">
                                        <p:cTn id="12"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304920"/>
            <a:ext cx="8610480" cy="6248160"/>
          </a:xfrm>
          <a:prstGeom prst="rect">
            <a:avLst/>
          </a:prstGeom>
          <a:noFill/>
          <a:ln w="0">
            <a:noFill/>
          </a:ln>
        </p:spPr>
        <p:txBody>
          <a:bodyPr lIns="90000" rIns="90000" tIns="46800" bIns="46800" anchor="t">
            <a:normAutofit fontScale="84000"/>
          </a:bodyPr>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فاشلين ينقسمون إلى قسمين، قسم يفكر دون تنفيذ، وقسم ينفذ دون تفكير</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من لا يعمل لا يخطئ</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هدية بسيطة غير متوقعة لها تأثير أكبر بكثير من هدية ثمينة متوقعة</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هناك قرارات مهمة يجب أن يتخذها الإنسان مهما كانت صعبة ومهما أغضبت أناساً من حوله</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6840" y="456840"/>
            <a:ext cx="8381880" cy="6095880"/>
          </a:xfrm>
          <a:prstGeom prst="rect">
            <a:avLst/>
          </a:prstGeom>
          <a:noFill/>
          <a:ln w="0">
            <a:noFill/>
          </a:ln>
        </p:spPr>
        <p:txBody>
          <a:bodyPr lIns="90000" rIns="90000" tIns="46800" bIns="46800" anchor="t">
            <a:normAutofit fontScale="85000"/>
          </a:bodyPr>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من أجمل الأحاسيس هو الشعور من داخلك بأنك قمت بالخطوة الصحيحة حتى ولو عاداك العالم أجمع</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سعادة لا تتحقق في غياب المشاكل في حياتنا، ولكنها تتحقق في التغلب على هذه المشاكل</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أمس هو شيك تم سحبه والغد هو شيك مؤجل أما الحاضر فهو السيولة الوحيدة المتوفرة لذا فإنه علينا أن نصرفه بحك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fontScale="84000"/>
          </a:bodyPr>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تعلمت أنه أولاً وأخيراً أن أحمد الله على كل ح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fontScale="86000"/>
          </a:bodyPr>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في المدرسة أو الجامعة نتعلم الدروس ثم نواجه الامتحانات أما في الحياة فإننا نواجه الامتحانات وبعدها نتعلم الدروس</a:t>
            </a:r>
            <a:r>
              <a:rPr b="1" lang="en-US" sz="4000" spc="-1" strike="noStrike">
                <a:solidFill>
                  <a:srgbClr val="ffffff"/>
                </a:solidFill>
                <a:latin typeface="Arial"/>
                <a:ea typeface="Arial"/>
              </a:rPr>
              <a:t> </a:t>
            </a:r>
            <a:br>
              <a:rPr sz="4000"/>
            </a:br>
            <a:r>
              <a:rPr b="1" lang="en-US" sz="4000" spc="-1" strike="noStrike">
                <a:solidFill>
                  <a:srgbClr val="ffffff"/>
                </a:solidFill>
                <a:latin typeface="Arial"/>
              </a:rPr>
              <a:t> </a:t>
            </a:r>
            <a:endParaRPr b="0" lang="en-US" sz="4000" spc="-1" strike="noStrike">
              <a:solidFill>
                <a:srgbClr val="ffffff"/>
              </a:solidFill>
              <a:latin typeface="Arial"/>
            </a:endParaRPr>
          </a:p>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 محادثة بسيطة أو حواراً قصيراً مع إنسان حكيم يساوي شهر دراسة</a:t>
            </a:r>
            <a:r>
              <a:rPr b="1" lang="en-US" sz="4000" spc="-1" strike="noStrike">
                <a:solidFill>
                  <a:srgbClr val="ffffff"/>
                </a:solidFill>
                <a:latin typeface="Arial"/>
              </a:rPr>
              <a:t> </a:t>
            </a:r>
            <a:endParaRPr b="0" lang="en-US" sz="4000" spc="-1" strike="noStrike">
              <a:solidFill>
                <a:srgbClr val="ffffff"/>
              </a:solidFill>
              <a:latin typeface="Arial"/>
            </a:endParaRPr>
          </a:p>
          <a:p>
            <a:pPr marL="2948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94840" indent="-294840" algn="ctr">
              <a:lnSpc>
                <a:spcPct val="90000"/>
              </a:lnSpc>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خير للإنسان أن يكون كالسلحفاة في الطريق الصحيح من أن يكون غزالاً في الطريق الخطأ</a:t>
            </a:r>
            <a:r>
              <a:rPr b="0" lang="en-US" sz="3200" spc="-1" strike="noStrike">
                <a:solidFill>
                  <a:srgbClr val="ffffff"/>
                </a:solidFill>
                <a:latin typeface="Arial"/>
                <a:ea typeface="Arial"/>
              </a:rPr>
              <a:t> </a:t>
            </a:r>
            <a:endParaRPr b="0" lang="en-US" sz="3200" spc="-1" strike="noStrike">
              <a:solidFill>
                <a:srgbClr val="ffffff"/>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6840" y="457200"/>
            <a:ext cx="8381880" cy="6019920"/>
          </a:xfrm>
          <a:prstGeom prst="rect">
            <a:avLst/>
          </a:prstGeom>
          <a:noFill/>
          <a:ln w="0">
            <a:noFill/>
          </a:ln>
        </p:spPr>
        <p:txBody>
          <a:bodyPr lIns="90000" rIns="90000" tIns="46800" bIns="46800" anchor="t">
            <a:normAutofit fontScale="95000"/>
          </a:bodyPr>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ه يوجد كثير من المتعلمين ، ولكن قلة منهم مثقفون</a:t>
            </a:r>
            <a:r>
              <a:rPr b="1" lang="en-US" sz="4000" spc="-1" strike="noStrike">
                <a:solidFill>
                  <a:srgbClr val="ffffff"/>
                </a:solidFill>
                <a:latin typeface="Arial"/>
              </a:rPr>
              <a:t> </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 مفتاح الفشل هو محاولة إرضاء كل شخص تعرفه</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ar-SA" sz="4000" spc="-1" strike="noStrike">
                <a:solidFill>
                  <a:srgbClr val="ffffff"/>
                </a:solidFill>
                <a:latin typeface="Arial"/>
                <a:cs typeface="Arial"/>
              </a:rPr>
              <a:t>تعلمت أنه لا يجب أن تقيس نفسك بما أنجزت حتى الآن ، ولكن بما يجب أن تحقق مقارنة بقدراتك</a:t>
            </a:r>
            <a:r>
              <a:rPr b="1" lang="en-US" sz="3600" spc="-1" strike="noStrike">
                <a:solidFill>
                  <a:srgbClr val="ffffff"/>
                </a:solidFill>
                <a:latin typeface="Arial"/>
              </a:rPr>
              <a:t> </a:t>
            </a:r>
            <a:endParaRPr b="0" lang="en-US" sz="3600" spc="-1" strike="noStrike">
              <a:solidFill>
                <a:srgbClr val="ffffff"/>
              </a:solidFill>
              <a:latin typeface="Arial"/>
            </a:endParaRPr>
          </a:p>
          <a:p>
            <a:pPr marL="3258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304920"/>
            <a:ext cx="8381880" cy="6324480"/>
          </a:xfrm>
          <a:prstGeom prst="rect">
            <a:avLst/>
          </a:prstGeom>
          <a:noFill/>
          <a:ln w="0">
            <a:noFill/>
          </a:ln>
        </p:spPr>
        <p:txBody>
          <a:bodyPr lIns="90000" rIns="90000" tIns="46800" bIns="46800" anchor="t">
            <a:normAutofit fontScale="89000"/>
          </a:bodyPr>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نجاح ليس كل شيء ، إنما الرغبة في النجاح هي كل شيء</a:t>
            </a:r>
            <a:r>
              <a:rPr b="1" lang="en-US" sz="3600" spc="-1" strike="noStrike">
                <a:solidFill>
                  <a:srgbClr val="c1ff83"/>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يجب على الإنسان كي ينجح أن يتجنب الأشخاص السلبيين والمتذمرين والمملين والمتشائمين والحاسدين.. لآن ما يقولوه عنا إذا تجنبناهم يعتبر أقل ضرراً مما يمكن أن يسببوه لنا لو لم نتجنبهم.. الملل والتذمر والتشاؤم أمراض معدية كالكوليرا.. تجنبهم دائماً</a:t>
            </a:r>
            <a:r>
              <a:rPr b="1" lang="en-US" sz="3600" spc="-1" strike="noStrike">
                <a:solidFill>
                  <a:srgbClr val="ffffff"/>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عمل الجيد أفضل بكثير من الكلام الجيد</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685440"/>
            <a:ext cx="8381880" cy="5715000"/>
          </a:xfrm>
          <a:prstGeom prst="rect">
            <a:avLst/>
          </a:prstGeom>
          <a:noFill/>
          <a:ln w="0">
            <a:noFill/>
          </a:ln>
        </p:spPr>
        <p:txBody>
          <a:bodyPr lIns="90000" rIns="90000" tIns="46800" bIns="46800" anchor="t">
            <a:normAutofit fontScale="94000"/>
          </a:bodyPr>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كل ما نراه عظيماً في الحياة بدأ بفكرة ومن بداية صغيرة</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يوجد هناك دائماً طريقة أفضل للقيام بعمل ما، ويجب أن نحاول دائماً أن نجدها</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ناس ينسون السرعة التي أنجزت بها عملك، ولكنهم يتذكرون نوعية ما أنجزت</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57200"/>
            <a:ext cx="8305920" cy="6019920"/>
          </a:xfrm>
          <a:prstGeom prst="rect">
            <a:avLst/>
          </a:prstGeom>
          <a:noFill/>
          <a:ln w="0">
            <a:noFill/>
          </a:ln>
        </p:spPr>
        <p:txBody>
          <a:bodyPr lIns="90000" rIns="90000" tIns="46800" bIns="46800" anchor="t">
            <a:normAutofit fontScale="93000"/>
          </a:bodyPr>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تنافس مع الذات هو أفضل تنافس في العالم، وكلما تنافس الإنسان مع نفسه كلما تطور، بحيث لا يكون اليوم كما كان بالأمس، ولا يكون غداً كما هو اليوم</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إنسان لا يستطيع أن يتطور إذا لم يجرب شيئاً غير معتاد عليه</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اشلين يقولون أن النجاح هو مجرد عملية حظ</a:t>
            </a:r>
            <a:r>
              <a:rPr b="0" lang="en-US" sz="2800" spc="-1" strike="noStrike">
                <a:solidFill>
                  <a:srgbClr val="c1ff83"/>
                </a:solidFill>
                <a:latin typeface="Arial"/>
              </a:rPr>
              <a:t> </a:t>
            </a:r>
            <a:endParaRPr b="0" lang="en-US" sz="2800" spc="-1" strike="noStrike">
              <a:solidFill>
                <a:srgbClr val="ffffff"/>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380520"/>
            <a:ext cx="8381880" cy="6172200"/>
          </a:xfrm>
          <a:prstGeom prst="rect">
            <a:avLst/>
          </a:prstGeom>
          <a:noFill/>
          <a:ln w="0">
            <a:noFill/>
          </a:ln>
        </p:spPr>
        <p:txBody>
          <a:bodyPr lIns="90000" rIns="90000" tIns="46800" bIns="46800" anchor="t">
            <a:normAutofit fontScale="86000"/>
          </a:bodyPr>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لا تحقيق للطموحات دون معاناة</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ar-SA" sz="3600" spc="-1" strike="noStrike">
                <a:solidFill>
                  <a:srgbClr val="c1ff83"/>
                </a:solidFill>
                <a:latin typeface="Arial"/>
                <a:cs typeface="Arial"/>
              </a:rPr>
              <a:t>تعلمت أن المعرفة لم تعد قوة في عصر السرعة والإنترنت والكمبيوتر، إنما تطبيق المعرفة هو القوة</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ذين لديهم الجرأة على مواجهة الفشل، هم الذين يقهرون الصعاب وينجحون</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شل لا يعتبر أسوأ شيء في هذا العالم، إنما الفشل هو أن لا نجرب</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fontScale="89000"/>
          </a:bodyPr>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هناك طريقتان ليكون لديك أعلى مبنى.. إما أن تدمر كل المباني من حولك، أو أن تبني أعلى من غيرك.. اختر دائماً أن تبني أعلى من غيرك</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نتهي المرء عندما يخسر، إنما عندما ينسحب</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ذي يكسب في النهاية من لديه القدرة على التحمل والصبر</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تم تحقيق أي شيء عظيم في هذه الحياة من دون حماسة</a:t>
            </a:r>
            <a:r>
              <a:rPr b="0" lang="en-US" sz="2800" spc="-1" strike="noStrike">
                <a:solidFill>
                  <a:srgbClr val="ffffff"/>
                </a:solidFill>
                <a:latin typeface="Arial"/>
              </a:rPr>
              <a:t> </a:t>
            </a:r>
            <a:endParaRPr b="0" lang="en-US" sz="2800" spc="-1" strike="noStrike">
              <a:solidFill>
                <a:srgbClr val="ffffff"/>
              </a:solidFill>
              <a:latin typeface="Arial"/>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304560"/>
            <a:ext cx="8534160" cy="6172200"/>
          </a:xfrm>
          <a:prstGeom prst="rect">
            <a:avLst/>
          </a:prstGeom>
          <a:noFill/>
          <a:ln w="0">
            <a:noFill/>
          </a:ln>
        </p:spPr>
        <p:txBody>
          <a:bodyPr lIns="90000" rIns="90000" tIns="46800" bIns="46800" anchor="t">
            <a:normAutofit fontScale="91000"/>
          </a:bodyPr>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ابتسامة لا تكلف شيئاً، ولكنها تعني الكثير</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 كل الاكتشافات و الاختراعات التي نشهدها في الحاضر، تم الحكم عليها قبل اكتشافها أو اختراعها بأنها مستحيل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ه إذا أمضيت وقتاً ممتعاً وأنت تلعب أي رياضة، فأنت الفائز حتى لو خسرت النتيج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من أكثر الأسلحة الفعالة التي يملكها الإنسان هي الوقت والصبر</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4T04:39:15Z</dcterms:created>
  <dc:creator>Deskpro</dc:creator>
  <dc:description/>
  <dc:language>en-US</dc:language>
  <cp:lastModifiedBy>Deskpro</cp:lastModifiedBy>
  <dcterms:modified xsi:type="dcterms:W3CDTF">2004-06-04T04:39:47Z</dcterms:modified>
  <cp:revision>1</cp:revision>
  <dc:subject/>
  <dc:title>مما بعض</dc:title>
</cp:coreProperties>
</file>